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DF79D-62C4-4BF7-8C1A-BFCEB879E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DE681-525F-4807-8EBB-D2AB24E4A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25FCF-B63B-44DC-889B-103FB1C6D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3DBAE-72E5-4201-A4C6-EF72A37F5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88503-7811-4DA3-8538-D6E4B5E49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DA619-112A-4C37-BF87-015A0D26B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54BA7-DE4A-4572-AE18-61E7E7146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DCAD7-C053-47A2-BCFB-0C315C6F9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924A9-FA7D-4AC5-B11D-7E9BBC96D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E2622-C8B9-41E8-AD41-EC54E2C43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8D21-0FBD-4905-9C1D-81312240F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A0F79-C318-43FC-9398-88EFA719D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5AC5-ACA9-4099-B6F6-612D05DDF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Now 8-31</a:t>
            </a:r>
            <a:br>
              <a:rPr sz="4000"/>
            </a:br>
            <a:r>
              <a:rPr b="0" lang="en-US" sz="4000" spc="-1" strike="noStrike">
                <a:solidFill>
                  <a:srgbClr val="000000"/>
                </a:solidFill>
                <a:latin typeface="Arial"/>
              </a:rPr>
              <a:t>I can comprehend text. </a:t>
            </a:r>
            <a:endParaRPr b="0" lang="en-US" sz="4000" spc="-1" strike="noStrike">
              <a:solidFill>
                <a:srgbClr val="000000"/>
              </a:solidFill>
              <a:latin typeface="Arial"/>
            </a:endParaRPr>
          </a:p>
        </p:txBody>
      </p:sp>
      <p:sp>
        <p:nvSpPr>
          <p:cNvPr id="42"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rections: Read the excerpt below.  On your “Do Now,” write down THREE MAJOR </a:t>
            </a:r>
            <a:r>
              <a:rPr b="0" i="1" lang="en-US" sz="3200" spc="-1" strike="noStrike">
                <a:solidFill>
                  <a:srgbClr val="ff0000"/>
                </a:solidFill>
                <a:latin typeface="Arial"/>
              </a:rPr>
              <a:t>NOUNS</a:t>
            </a:r>
            <a:r>
              <a:rPr b="0" i="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In 1963, blacks and whites in much of the South ate at separate restaurants, went to separate schools, and even drank from separate water fountains.  Some whites at the time were racists.  Some used violence against African-Americans.  But things were about to change.  The leaders of the civil rights movement were working hard to make our country a fairer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6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er cannot marry his girlfriend, Sheila. Wh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acial marriage is illegal.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101" dur="500"/>
                                        <p:tgtEl>
                                          <p:spTgt spid="6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06"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7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Jake and Chris walk home from school, they noticed 2 differences between white &amp; blacks.  What are the difference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he school for white students is much nicer than their scho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Fountain: Two water fountains labeled “white” and “colore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13" dur="500"/>
                                        <p:tgtEl>
                                          <p:spTgt spid="62">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18" dur="500"/>
                                        <p:tgtEl>
                                          <p:spTgt spid="62">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123"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8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Carter get arrested?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holding hands with Sheila.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130" dur="500"/>
                                        <p:tgtEl>
                                          <p:spTgt spid="6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64">
                                            <p:txEl>
                                              <p:pRg st="2" end="2"/>
                                            </p:txEl>
                                          </p:spTgt>
                                        </p:tgtEl>
                                        <p:attrNameLst>
                                          <p:attrName>style.visibility</p:attrName>
                                        </p:attrNameLst>
                                      </p:cBhvr>
                                      <p:to>
                                        <p:strVal val="visible"/>
                                      </p:to>
                                    </p:set>
                                    <p:animEffect filter="blinds(horizontal)" transition="in">
                                      <p:cBhvr additive="repl">
                                        <p:cTn id="135"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9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e report states that Carter was arrested for this reason:</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start a fight with a police office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42" dur="500"/>
                                        <p:tgtEl>
                                          <p:spTgt spid="6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47"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0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ke begins to feel differently about Martin Luther King after Carter is arrested. What if Carter never got arrested, would he feel differently?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 Ques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154" dur="500"/>
                                        <p:tgtEl>
                                          <p:spTgt spid="6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68">
                                            <p:txEl>
                                              <p:pRg st="2" end="2"/>
                                            </p:txEl>
                                          </p:spTgt>
                                        </p:tgtEl>
                                        <p:attrNameLst>
                                          <p:attrName>style.visibility</p:attrName>
                                        </p:attrNameLst>
                                      </p:cBhvr>
                                      <p:to>
                                        <p:strVal val="visible"/>
                                      </p:to>
                                    </p:set>
                                    <p:animEffect filter="blinds(horizontal)" transition="in">
                                      <p:cBhvr additive="repl">
                                        <p:cTn id="159"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1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Mr. Evans crying at the end of the pla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he listens to Dr. King speak, he believes change can happe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66" dur="500"/>
                                        <p:tgtEl>
                                          <p:spTgt spid="70">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171"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2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King’s march had been different, how would it have changed the Civil Rights Act of 1964?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 Ques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178" dur="500"/>
                                        <p:tgtEl>
                                          <p:spTgt spid="72">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183"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Reading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RJ if time perm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sentence stem from your notes worksheet I gave you on RRJ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o support your thoughts with 2 pieces of text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THE PLAY</a:t>
            </a:r>
            <a:br>
              <a:rPr sz="4000"/>
            </a:br>
            <a:r>
              <a:rPr b="0" lang="en-US" sz="4000" spc="-1" strike="noStrike">
                <a:solidFill>
                  <a:srgbClr val="000000"/>
                </a:solidFill>
                <a:latin typeface="Arial"/>
              </a:rPr>
              <a:t>“Fighting for Fairnes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into two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 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he major charac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major conflict in the s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believe the conflict is sol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changes in th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checkerboard(across)"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base">
                                        <p:cTn id="12"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1" presetSubtype="4">
                                  <p:stCondLst>
                                    <p:cond delay="0"/>
                                  </p:stCondLst>
                                  <p:childTnLst>
                                    <p:set>
                                      <p:cBhvr>
                                        <p:cTn id="17" dur="1" fill="hold">
                                          <p:stCondLst>
                                            <p:cond delay="0"/>
                                          </p:stCondLst>
                                        </p:cTn>
                                        <p:tgtEl>
                                          <p:spTgt spid="46">
                                            <p:txEl>
                                              <p:pRg st="2" end="2"/>
                                            </p:txEl>
                                          </p:spTgt>
                                        </p:tgtEl>
                                        <p:attrNameLst>
                                          <p:attrName>style.visibility</p:attrName>
                                        </p:attrNameLst>
                                      </p:cBhvr>
                                      <p:to>
                                        <p:strVal val="visible"/>
                                      </p:to>
                                    </p:set>
                                    <p:animEffect filter="wheel(4)" transition="in">
                                      <p:cBhvr additive="repl">
                                        <p:cTn id="18" dur="2000"/>
                                        <p:tgtEl>
                                          <p:spTgt spid="46">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23" dur="500"/>
                                        <p:tgtEl>
                                          <p:spTgt spid="46">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6">
                                            <p:txEl>
                                              <p:pRg st="6" end="6"/>
                                            </p:txEl>
                                          </p:spTgt>
                                        </p:tgtEl>
                                        <p:attrNameLst>
                                          <p:attrName>style.visibility</p:attrName>
                                        </p:attrNameLst>
                                      </p:cBhvr>
                                      <p:to>
                                        <p:strVal val="visible"/>
                                      </p:to>
                                    </p:set>
                                    <p:animEffect filter="fade" transition="in">
                                      <p:cBhvr additive="repl">
                                        <p:cTn id="28" dur="20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on Check</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ighting for Fair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etting of the story? (Hint: remember there are 2 parts to setting).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Maryl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1963</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35" dur="500"/>
                                        <p:tgtEl>
                                          <p:spTgt spid="50">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40" dur="500"/>
                                        <p:tgtEl>
                                          <p:spTgt spid="50">
                                            <p:txEl>
                                              <p:pRg st="2" end="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43"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2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a problem that Carter, Jake’s brother, is dating Greg’s sister?</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s sister is white &amp; Carter is African America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50" dur="500"/>
                                        <p:tgtEl>
                                          <p:spTgt spid="52">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55"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3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led a march in Detroit, in which more than 125,000 white and black people walked together.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Luther King.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62" dur="500"/>
                                        <p:tgtEl>
                                          <p:spTgt spid="54">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67"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4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this march upset Mr. Evan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lieves Martin Luther King is a “troublemak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s also upset his son is talking about the protest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4" dur="500"/>
                                        <p:tgtEl>
                                          <p:spTgt spid="56">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79" dur="500"/>
                                        <p:tgtEl>
                                          <p:spTgt spid="56">
                                            <p:txEl>
                                              <p:pRg st="2" end="2"/>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82"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5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er claims “_______ is happening all around u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89" dur="500"/>
                                        <p:tgtEl>
                                          <p:spTgt spid="5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94"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21:43:52Z</dcterms:created>
  <dc:creator>Parkway</dc:creator>
  <dc:description/>
  <dc:language>en-US</dc:language>
  <cp:lastModifiedBy>Administrator</cp:lastModifiedBy>
  <dcterms:modified xsi:type="dcterms:W3CDTF">2010-08-31T13:51:05Z</dcterms:modified>
  <cp:revision>8</cp:revision>
  <dc:subject/>
  <dc:title>Comprehension Check</dc:title>
</cp:coreProperties>
</file>